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media/image8.wmf" ContentType="image/x-wmf"/>
  <Override PartName="/ppt/media/image6.wmf" ContentType="image/x-wmf"/>
  <Override PartName="/ppt/media/image11.wmf" ContentType="image/x-wmf"/>
  <Override PartName="/ppt/media/image7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47E-356E-4BA2-AFB0-5B875C2C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F15-1FB6-4FB5-A650-093B6992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428C5-5F76-450C-932B-707D9AC7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D2E19-3870-4632-BD82-899A2000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91B55-5377-4491-B63C-900DD99D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FE46B-13A2-4345-AF4A-BE29B750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EEEEE-8CEE-452C-8556-EA904C2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962D5-A342-48CF-893E-B0D9CF2C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362F1-BDD1-48C3-9088-8EA81494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10261-7F5E-4841-8E50-56E7F7E4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CF2C4-1E7F-4141-8E66-01197C67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BA068-C9A8-4B59-A467-39CC6389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223-7200-4BF3-8A9A-4597F4DB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B8466-122D-4527-8C11-22CF92A3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C989E-E4B8-4646-9F64-200204F2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F6191-7A9D-4783-99CD-CA223A85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FD872-4A9A-49FF-9FA7-98F8D674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82BFC-D54D-45D1-9F91-22D57B3B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961F4-A21A-4798-B798-C770957A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245C8-E2F7-4533-A4A6-4B31A87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18A80-D458-4096-A011-7E0C953F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A0186-87DC-4150-A0A7-A7A7B2D0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32537-BF4A-444B-81A5-737A9158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94B-C850-4267-9DBB-DA960A66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38EA6-D5E3-417C-AEA9-C93D5E4A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F4FA0-AC1B-49F9-99AC-A112F92A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FC1C9-C698-480A-B543-90738B08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B1D01-7F77-48AB-9359-9D5DECDB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C8C35-14FA-43D3-92F6-81651445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69E68-F65A-4492-83B2-FA959571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9630B-7F6D-4336-87AA-81FAA714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990BA-1973-4798-8441-474BF15E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F6F50-B2E3-4FC4-9EFC-E8C21E2B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870E7-9E9B-461C-B7C1-1D2E10D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4A41-28F5-41D3-8D0C-EDB1A622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18898-ED2D-4701-99F3-99214BC2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8A346-EF4D-4D7A-B815-8E650E31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2A84D-30A6-4572-AAD8-DFF7D312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07903-6C6E-4A1D-BFE7-7D1A57D8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4F746-0B60-4C0A-B01C-E63E72C4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9CAC7-4561-4580-850A-DB65F3E9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27DD7-567A-4F42-A2A5-7D077F2F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BF676-17E9-4C88-B1A2-53E78EEE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B64A9-EB97-4241-B677-685DBD5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A3744-FB58-4C40-AAFD-FC2B976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03BE-0997-4DA1-B993-DFAD5AA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22D56-C247-48CC-87CA-C45D2C1D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C24B3-783E-47F7-8E5D-F9410A67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1A273-C518-4F08-AF07-FF94DB6B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FB628-286D-45A9-B759-CAAA8E61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799BA-5EBD-4A0D-AA7A-FE844829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7624-07E7-40D5-995A-27272DB0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0A61-40E8-4FD2-AB87-E340D883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431C-9700-4D1D-8CD6-2AD8DCA4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47EB-661C-4DA3-B624-E5973609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4EE1-0547-4C03-A067-D734DB16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A69-74CC-4288-A3F7-CD32722D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C3A6-2ECC-4A15-B5AA-B93EB4A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EA9F-B52C-4CB4-AAF3-702EA9AD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9A29-C866-44F5-915A-79CDB10E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CF84-104D-42CE-AA44-E1727195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40EC-42B8-49F2-BD13-56D78198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C8DEA-2875-440A-8DF2-4C54368D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1898F-3042-4103-BB87-EFDAFBCD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7DB5-553E-4C62-94BF-521BFDEE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1CF0-4D11-4379-9F01-0B96B4DC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AC77-7213-41A7-A38F-0D883851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745-CACC-41B9-B507-DE19A265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EF21-82D9-4725-8BFC-324C31FD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E708-BBE6-4CAB-99FE-00129BC7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4480-699D-44AA-B943-3AC6E4C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85D5-422F-4CF6-AA37-73A7D39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7367-F76D-4382-8D0C-C15F347D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31BB-74CE-48F8-9EBD-42B4991A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FE2B-E07A-46C4-BEF1-69D5085F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307B-7E30-4545-BB3D-6D527806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9F5B-D0CF-4163-9F2B-A2543D02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0FF3B-12B6-4A7B-ACCA-6A45DBF7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6B6-93D3-474D-B04E-B6EFE96B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9C0F-67AD-4B29-AB6C-6BEA9B36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377D6-784D-4D08-AC80-82313D3E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F3F80-3641-4E98-A85E-0FF91D1C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2F3A-FF98-44D5-9FDD-DAB6E7BD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B33A-2C88-414D-85DE-A61C8E8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518B-6932-4676-8BDD-2174A28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606D-8DFB-45FC-9BF7-B91742D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182A-44EC-4823-85B0-5EDC0FC4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01A4-438B-4B7B-8480-FD6B017F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6387-F650-485C-AE58-74CCE5C3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FDF-F6EB-4373-B6F0-0F868DE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D5A5-67FC-47ED-BA0F-B9E127D6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E270-1417-45B9-98B9-255E71CB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A1BC-73D9-44DF-AEC2-FC2C22AA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D8D68-975E-4975-BB18-1BD7931F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528E4-066B-4007-81DE-049C112A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366AB-46D5-42A3-9FA8-24E0DA3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1B23-47E0-4FA9-A959-066D72BF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194FA-3692-4D37-B907-62E78103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97804-5F51-44D2-BC08-0FE43227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AF39-9124-406C-93A4-F13B23C2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243-1634-4688-ADDD-2335CC26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FF02-303C-4F74-89C0-05552BDE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1E78B-043E-4839-8621-23C9910A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0B53C-846A-4CFB-B4AD-01EA4926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8043C-A834-4E96-9B24-4AF26FCD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2286A-A99C-4069-B3ED-42C5F4D3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F331D-F7BF-4261-8E3E-5191487F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08E4A-910E-4D97-B40F-F4D1AD51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7227C-2BB9-43F2-AD8F-883B2069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1877-B420-4A95-B5AC-048D55BD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63281-2A98-4428-92E0-21F01AB2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BD8-E951-4935-823A-2D559A9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4B22B-7C93-4001-8B59-1B01BF5F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EC5FC-90A1-4A50-B64C-561121A6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E819E-2AD1-4414-992D-10DB7A35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214E6-042A-42FA-A119-AC1764F2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EA90A-C57C-43F3-877B-5C40667A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704E0-E107-48C8-BC59-D0CD16B4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B0063-5D6F-4FD7-A922-6B489AF5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DA565-46E8-4E68-AC88-4E6D5A4A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94E5-87EB-4B45-B96C-EA4CF0E0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1E5A0-C6CA-42A7-A5A0-DF3D959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98B-D969-45A3-95F6-AE1470FF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C1468-7E9A-411A-AEDD-71EEFB39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4C33B-83E9-439C-B98F-A563927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18475-2D2B-4772-ADC9-2FFB403E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ED446-A952-4A9C-A30F-DF81BB7E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70999-C54A-459A-89A0-7B989B5E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DC10B-B871-4730-9EA6-4AB89247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803C7-4AF8-43DE-B23E-65AB8C85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4A127-B44A-47A0-BD39-3FBF200D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605FE-4FB1-433D-9518-27729D54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9755D-182C-494E-AF09-4C8C771C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5D5-C716-4DD7-9EF6-712118C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B1662-3F8E-4D29-9AF7-A930AE6E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5D0FA-F87B-469B-A6E7-F9782C5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FD03C-469F-4246-8DE3-BB1E964E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DFBF9-5663-4E12-883B-4229C0D0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301D0-87FB-47A0-8740-47BBD84C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6461D-8C79-40AD-9ABA-18CE330F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E4618-353C-437C-953C-C674ADB3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AC958-B412-489C-AAF4-7B44D314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07755-0524-48F7-8C13-861D532E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AF68E-E7CE-4041-BC91-52F1609C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8A38-5DD7-42DB-9D2D-1D1E969729D2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5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6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7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8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9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0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1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2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3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4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5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6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8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9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0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1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2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4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5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6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7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8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8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9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0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985D-E249-445C-8491-AC86239F0FC2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1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2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3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5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6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7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8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9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0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1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2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3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4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5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6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7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8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9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0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1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2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3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4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1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2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3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22CF-1FBD-4945-BF0B-FB4DC19F4624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7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8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9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0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1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2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3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4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5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6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7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8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9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0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1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2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3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4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5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6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7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8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9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0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4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5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6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A11C-782D-4124-BBF9-FEE9AB1AFB12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2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Freeform 10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Freeform 12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Freeform 13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Freeform 15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Freeform 16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Freeform 17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Freeform 18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Freeform 19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Freeform 20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Freeform 22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Freeform 23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Freeform 24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Freeform 25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Freeform 26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Freeform 27"/>
          <p:cNvSpPr/>
          <p:nvPr/>
        </p:nvSpPr>
        <p:spPr>
          <a:xfrm>
            <a:off x="8207280" y="3448080"/>
            <a:ext cx="938160" cy="15778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Freeform 28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739800" y="55688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78080" y="5568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607080" y="55688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C4CD-6938-450A-BC78-0D3EC4B15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846A-628E-4475-A31E-3C5638044D18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5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8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9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2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7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A85C-7E51-4B00-8E7D-FD21CD9DE237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7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8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0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1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3B85-D36F-4C2A-BDBC-58E4CDD3BC3F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5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6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0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1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5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7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8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9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0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1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3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4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B8EB-4982-4B30-A907-1677D6AD86F3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8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9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2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3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4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5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0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1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2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3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4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5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7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8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9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0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19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0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1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3E8A-65C8-40A7-AE81-92762679D343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3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4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5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7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9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0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1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2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3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4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5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7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8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9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0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1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2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3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5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6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2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3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4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71EC-81C1-48CD-9746-F863BFDC8891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9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0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1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3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4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5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6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7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8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9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0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2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3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4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5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6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7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8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9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0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1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2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5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6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27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5435-7E36-4378-A0C4-975395BFE809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80640" y="2176560"/>
            <a:ext cx="717084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Predicates</a:t>
            </a:r>
            <a:endParaRPr b="1" lang="en-US" sz="7200" spc="-1" strike="noStrike">
              <a:solidFill>
                <a:srgbClr val="0000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72" name="Text Box 3"/>
          <p:cNvSpPr/>
          <p:nvPr/>
        </p:nvSpPr>
        <p:spPr>
          <a:xfrm>
            <a:off x="990720" y="2133720"/>
            <a:ext cx="739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Seven monkeys played in the tree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4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Seven monkeys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THEY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played in the tree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7" name="Freeform 8"/>
          <p:cNvSpPr/>
          <p:nvPr/>
        </p:nvSpPr>
        <p:spPr>
          <a:xfrm>
            <a:off x="4495680" y="2590920"/>
            <a:ext cx="121932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8" name="Line 9"/>
          <p:cNvSpPr/>
          <p:nvPr/>
        </p:nvSpPr>
        <p:spPr>
          <a:xfrm>
            <a:off x="4419720" y="1905120"/>
            <a:ext cx="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9" name="Line 10"/>
          <p:cNvSpPr/>
          <p:nvPr/>
        </p:nvSpPr>
        <p:spPr>
          <a:xfrm>
            <a:off x="4495680" y="2666880"/>
            <a:ext cx="3581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53341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82" name="Picture 13" descr="j0186485"/>
          <p:cNvPicPr/>
          <p:nvPr/>
        </p:nvPicPr>
        <p:blipFill>
          <a:blip r:embed="rId1"/>
          <a:stretch/>
        </p:blipFill>
        <p:spPr>
          <a:xfrm>
            <a:off x="380880" y="4756320"/>
            <a:ext cx="3657600" cy="210168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4037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85" name="Text Box 3"/>
          <p:cNvSpPr/>
          <p:nvPr/>
        </p:nvSpPr>
        <p:spPr>
          <a:xfrm>
            <a:off x="990720" y="21337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Jon, Sue and I ate dinner together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7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Jon, Sue and I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8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W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9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ate dinner together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4191120" y="2666880"/>
            <a:ext cx="68580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1" name="Line 9"/>
          <p:cNvSpPr/>
          <p:nvPr/>
        </p:nvSpPr>
        <p:spPr>
          <a:xfrm>
            <a:off x="4114800" y="1981080"/>
            <a:ext cx="0" cy="1067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2" name="Line 10"/>
          <p:cNvSpPr/>
          <p:nvPr/>
        </p:nvSpPr>
        <p:spPr>
          <a:xfrm>
            <a:off x="4114800" y="2666880"/>
            <a:ext cx="4038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3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95" name="Picture 14" descr="j0089618"/>
          <p:cNvPicPr/>
          <p:nvPr/>
        </p:nvPicPr>
        <p:blipFill>
          <a:blip r:embed="rId1"/>
          <a:stretch/>
        </p:blipFill>
        <p:spPr>
          <a:xfrm>
            <a:off x="380880" y="4676760"/>
            <a:ext cx="3353040" cy="218124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5" descr=""/>
          <p:cNvPicPr/>
          <p:nvPr/>
        </p:nvPicPr>
        <p:blipFill>
          <a:blip r:embed="rId2"/>
          <a:stretch/>
        </p:blipFill>
        <p:spPr>
          <a:xfrm>
            <a:off x="3733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3" dur="10931" fill="hold"/>
                                        <p:tgtEl>
                                          <p:spTgt spid="8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98" name="Text Box 3"/>
          <p:cNvSpPr/>
          <p:nvPr/>
        </p:nvSpPr>
        <p:spPr>
          <a:xfrm>
            <a:off x="1143000" y="2133720"/>
            <a:ext cx="7086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Jon and Sue are getting married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Jon and Su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1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WILL THEY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are getting married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3" name="Freeform 8"/>
          <p:cNvSpPr/>
          <p:nvPr/>
        </p:nvSpPr>
        <p:spPr>
          <a:xfrm>
            <a:off x="3962520" y="2666880"/>
            <a:ext cx="68580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4" name="Line 9"/>
          <p:cNvSpPr/>
          <p:nvPr/>
        </p:nvSpPr>
        <p:spPr>
          <a:xfrm>
            <a:off x="3886200" y="19051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5" name="Line 10"/>
          <p:cNvSpPr/>
          <p:nvPr/>
        </p:nvSpPr>
        <p:spPr>
          <a:xfrm>
            <a:off x="3962520" y="2666880"/>
            <a:ext cx="3886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7" name="Text Box 12"/>
          <p:cNvSpPr/>
          <p:nvPr/>
        </p:nvSpPr>
        <p:spPr>
          <a:xfrm>
            <a:off x="55627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08" name="Picture 13" descr="j0156457"/>
          <p:cNvPicPr/>
          <p:nvPr/>
        </p:nvPicPr>
        <p:blipFill>
          <a:blip r:embed="rId1"/>
          <a:stretch/>
        </p:blipFill>
        <p:spPr>
          <a:xfrm>
            <a:off x="609480" y="4616280"/>
            <a:ext cx="2667240" cy="2241720"/>
          </a:xfrm>
          <a:prstGeom prst="rect">
            <a:avLst/>
          </a:prstGeom>
          <a:ln w="0">
            <a:noFill/>
          </a:ln>
        </p:spPr>
      </p:pic>
      <p:pic>
        <p:nvPicPr>
          <p:cNvPr id="909" name="MacOS" descr=""/>
          <p:cNvPicPr/>
          <p:nvPr/>
        </p:nvPicPr>
        <p:blipFill>
          <a:blip r:embed="rId2"/>
          <a:stretch/>
        </p:blipFill>
        <p:spPr>
          <a:xfrm>
            <a:off x="2743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4" dur="1" fill="hold"/>
                                        <p:tgtEl>
                                          <p:spTgt spid="9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990720" y="2133720"/>
            <a:ext cx="739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Tim  and I will be in the wedding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Tim and I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W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will be in the wedding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6" name="Freeform 8"/>
          <p:cNvSpPr/>
          <p:nvPr/>
        </p:nvSpPr>
        <p:spPr>
          <a:xfrm>
            <a:off x="3276720" y="2590920"/>
            <a:ext cx="121896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3200400" y="1981080"/>
            <a:ext cx="0" cy="1067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3276720" y="2666880"/>
            <a:ext cx="46479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21" name="Picture 13" descr="PE02293_"/>
          <p:cNvPicPr/>
          <p:nvPr/>
        </p:nvPicPr>
        <p:blipFill>
          <a:blip r:embed="rId1"/>
          <a:stretch/>
        </p:blipFill>
        <p:spPr>
          <a:xfrm>
            <a:off x="0" y="3962520"/>
            <a:ext cx="2736720" cy="28954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4" descr=""/>
          <p:cNvPicPr/>
          <p:nvPr/>
        </p:nvPicPr>
        <p:blipFill>
          <a:blip r:embed="rId2"/>
          <a:stretch/>
        </p:blipFill>
        <p:spPr>
          <a:xfrm>
            <a:off x="2971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8" dur="6777" fill="hold"/>
                                        <p:tgtEl>
                                          <p:spTgt spid="9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entury Gothic"/>
              </a:rPr>
              <a:t>Let’s Review: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933480" y="1685880"/>
            <a:ext cx="71168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o Find the PREDICATE: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1066680" y="2666880"/>
            <a:ext cx="694692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Ask what does the subject do?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Find the verb (action or linking)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Draw a vertical line before the verb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The predicate is the rest of the sentenc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2" dur="5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50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50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5438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Every complete sentence has two parts:  </a:t>
            </a:r>
            <a:r>
              <a:rPr b="1" lang="en-US" sz="3600" spc="-1" strike="noStrike">
                <a:solidFill>
                  <a:srgbClr val="0000ff"/>
                </a:solidFill>
                <a:latin typeface="Century Gothic"/>
              </a:rPr>
              <a:t>subject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lang="en-US" sz="3600" spc="-1" strike="noStrike">
                <a:solidFill>
                  <a:srgbClr val="008000"/>
                </a:solidFill>
                <a:latin typeface="Century Gothic"/>
              </a:rPr>
              <a:t>predicate</a:t>
            </a:r>
            <a:endParaRPr b="1" lang="en-US" sz="36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The subject is the who (or what) the sentence is about.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e predicate tells what the subject does.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Judy and her dog run on the beach every day.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Who?   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What do they do?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2666880" y="3276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Judy and her do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8" name="Text Box 10"/>
          <p:cNvSpPr/>
          <p:nvPr/>
        </p:nvSpPr>
        <p:spPr>
          <a:xfrm>
            <a:off x="2590920" y="44956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run on the beach everyday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9" name="Text Box 11"/>
          <p:cNvSpPr/>
          <p:nvPr/>
        </p:nvSpPr>
        <p:spPr>
          <a:xfrm>
            <a:off x="5943600" y="32004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5410080" y="39625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90720" y="9907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 Rounded MT Bold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02" name="Picture 14" descr="AG00185_"/>
          <p:cNvPicPr/>
          <p:nvPr/>
        </p:nvPicPr>
        <p:blipFill>
          <a:blip r:embed="rId1"/>
          <a:stretch/>
        </p:blipFill>
        <p:spPr>
          <a:xfrm>
            <a:off x="0" y="4648320"/>
            <a:ext cx="4019400" cy="19936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" descr=""/>
          <p:cNvPicPr/>
          <p:nvPr/>
        </p:nvPicPr>
        <p:blipFill>
          <a:blip r:embed="rId2"/>
          <a:stretch/>
        </p:blipFill>
        <p:spPr>
          <a:xfrm>
            <a:off x="35812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6" descr=""/>
          <p:cNvPicPr/>
          <p:nvPr/>
        </p:nvPicPr>
        <p:blipFill>
          <a:blip r:embed="rId3"/>
          <a:stretch/>
        </p:blipFill>
        <p:spPr>
          <a:xfrm>
            <a:off x="32004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5" name="Oval 17"/>
          <p:cNvSpPr/>
          <p:nvPr/>
        </p:nvSpPr>
        <p:spPr>
          <a:xfrm>
            <a:off x="914400" y="1600200"/>
            <a:ext cx="51814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6019920" y="2286000"/>
            <a:ext cx="1752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7" name="Line 19"/>
          <p:cNvSpPr/>
          <p:nvPr/>
        </p:nvSpPr>
        <p:spPr>
          <a:xfrm>
            <a:off x="1523880" y="2971800"/>
            <a:ext cx="56390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676" fill="hold"/>
                                        <p:tgtEl>
                                          <p:spTgt spid="8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176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727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To Find the PREDICATE: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Ask what does it do?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nd the verb (action or linking)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Draw a vertical line before the verb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e predicate is the rest of the sentence.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9"/>
          <p:cNvSpPr/>
          <p:nvPr/>
        </p:nvSpPr>
        <p:spPr>
          <a:xfrm>
            <a:off x="640080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Judy and her dog run on the beach every day.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990720" y="9907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 Rounded MT Bold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3" name="Freeform 15"/>
          <p:cNvSpPr/>
          <p:nvPr/>
        </p:nvSpPr>
        <p:spPr>
          <a:xfrm>
            <a:off x="6095880" y="2209680"/>
            <a:ext cx="91440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4" name="Line 16"/>
          <p:cNvSpPr/>
          <p:nvPr/>
        </p:nvSpPr>
        <p:spPr>
          <a:xfrm>
            <a:off x="6019920" y="1523880"/>
            <a:ext cx="0" cy="1067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6095880" y="2286000"/>
            <a:ext cx="16765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6" name="Line 19"/>
          <p:cNvSpPr/>
          <p:nvPr/>
        </p:nvSpPr>
        <p:spPr>
          <a:xfrm>
            <a:off x="1447920" y="2971800"/>
            <a:ext cx="5867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7" name="Text Box 20"/>
          <p:cNvSpPr/>
          <p:nvPr/>
        </p:nvSpPr>
        <p:spPr>
          <a:xfrm>
            <a:off x="609480" y="342900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entury Gothic"/>
              </a:rPr>
              <a:t>Find the verb (action or linking)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8" name="Text Box 21"/>
          <p:cNvSpPr/>
          <p:nvPr/>
        </p:nvSpPr>
        <p:spPr>
          <a:xfrm>
            <a:off x="609480" y="4267080"/>
            <a:ext cx="85345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entury Gothic"/>
              </a:rPr>
              <a:t>Draw a vertical line before the verb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entury Gothic"/>
              </a:rPr>
              <a:t>The predicateis the rest of the sentence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20" name="Text Box 10"/>
          <p:cNvSpPr/>
          <p:nvPr/>
        </p:nvSpPr>
        <p:spPr>
          <a:xfrm>
            <a:off x="1143000" y="2133720"/>
            <a:ext cx="7086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My little brother broke his finger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1" name="Text Box 11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2" name="Text Box 12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My little brother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3" name="Text Box 13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H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4" name="Text Box 14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broke his finger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5" name="Freeform 15"/>
          <p:cNvSpPr/>
          <p:nvPr/>
        </p:nvSpPr>
        <p:spPr>
          <a:xfrm>
            <a:off x="4800600" y="2590920"/>
            <a:ext cx="91440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4572000" y="1905120"/>
            <a:ext cx="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4724280" y="2666880"/>
            <a:ext cx="3200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8" name="Text Box 18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9" name="Text Box 19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30" name="Picture 21" descr="j0423856"/>
          <p:cNvPicPr/>
          <p:nvPr/>
        </p:nvPicPr>
        <p:blipFill>
          <a:blip r:embed="rId1"/>
          <a:stretch/>
        </p:blipFill>
        <p:spPr>
          <a:xfrm>
            <a:off x="609480" y="4724280"/>
            <a:ext cx="2038320" cy="19256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2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3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1678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990720" y="2133720"/>
            <a:ext cx="7467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His Uncle Bob asked for directions.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5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His Uncle Bob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H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asked for directions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8" name="Freeform 8"/>
          <p:cNvSpPr/>
          <p:nvPr/>
        </p:nvSpPr>
        <p:spPr>
          <a:xfrm>
            <a:off x="4114800" y="2590920"/>
            <a:ext cx="1143000" cy="304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9" name="Line 9"/>
          <p:cNvSpPr/>
          <p:nvPr/>
        </p:nvSpPr>
        <p:spPr>
          <a:xfrm>
            <a:off x="4038480" y="1905120"/>
            <a:ext cx="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0" name="Line 10"/>
          <p:cNvSpPr/>
          <p:nvPr/>
        </p:nvSpPr>
        <p:spPr>
          <a:xfrm>
            <a:off x="4191120" y="2666880"/>
            <a:ext cx="3886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1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2" name="Text Box 12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43" name="Picture 13" descr="j0236466"/>
          <p:cNvPicPr/>
          <p:nvPr/>
        </p:nvPicPr>
        <p:blipFill>
          <a:blip r:embed="rId1"/>
          <a:stretch/>
        </p:blipFill>
        <p:spPr>
          <a:xfrm>
            <a:off x="-1522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4" descr=""/>
          <p:cNvPicPr/>
          <p:nvPr/>
        </p:nvPicPr>
        <p:blipFill>
          <a:blip r:embed="rId2"/>
          <a:stretch/>
        </p:blipFill>
        <p:spPr>
          <a:xfrm>
            <a:off x="2971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996" fill="hold"/>
                                        <p:tgtEl>
                                          <p:spTgt spid="8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46" name="Text Box 3"/>
          <p:cNvSpPr/>
          <p:nvPr/>
        </p:nvSpPr>
        <p:spPr>
          <a:xfrm>
            <a:off x="990720" y="2133720"/>
            <a:ext cx="7238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Our babysitter arrived late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7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Our babysitter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SH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0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arrived late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1" name="Freeform 8"/>
          <p:cNvSpPr/>
          <p:nvPr/>
        </p:nvSpPr>
        <p:spPr>
          <a:xfrm>
            <a:off x="5029200" y="2666880"/>
            <a:ext cx="129528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2" name="Line 9"/>
          <p:cNvSpPr/>
          <p:nvPr/>
        </p:nvSpPr>
        <p:spPr>
          <a:xfrm>
            <a:off x="4876920" y="1905120"/>
            <a:ext cx="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3" name="Line 10"/>
          <p:cNvSpPr/>
          <p:nvPr/>
        </p:nvSpPr>
        <p:spPr>
          <a:xfrm>
            <a:off x="5029200" y="2666880"/>
            <a:ext cx="2286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4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5" name="Text Box 12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6" name="Picture 13" descr="j0286758"/>
          <p:cNvPicPr/>
          <p:nvPr/>
        </p:nvPicPr>
        <p:blipFill>
          <a:blip r:embed="rId1"/>
          <a:stretch/>
        </p:blipFill>
        <p:spPr>
          <a:xfrm>
            <a:off x="304920" y="4724280"/>
            <a:ext cx="1981080" cy="18925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4" descr=""/>
          <p:cNvPicPr/>
          <p:nvPr/>
        </p:nvPicPr>
        <p:blipFill>
          <a:blip r:embed="rId2"/>
          <a:stretch/>
        </p:blipFill>
        <p:spPr>
          <a:xfrm>
            <a:off x="2514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043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59" name="Text Box 3"/>
          <p:cNvSpPr/>
          <p:nvPr/>
        </p:nvSpPr>
        <p:spPr>
          <a:xfrm>
            <a:off x="990720" y="2133720"/>
            <a:ext cx="739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The children bought a candy bar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The children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THEY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3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bought a candy bar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4" name="Freeform 8"/>
          <p:cNvSpPr/>
          <p:nvPr/>
        </p:nvSpPr>
        <p:spPr>
          <a:xfrm>
            <a:off x="3886200" y="2666880"/>
            <a:ext cx="121932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5" name="Line 9"/>
          <p:cNvSpPr/>
          <p:nvPr/>
        </p:nvSpPr>
        <p:spPr>
          <a:xfrm>
            <a:off x="3809880" y="1981080"/>
            <a:ext cx="0" cy="1067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6" name="Line 10"/>
          <p:cNvSpPr/>
          <p:nvPr/>
        </p:nvSpPr>
        <p:spPr>
          <a:xfrm>
            <a:off x="3886200" y="2666880"/>
            <a:ext cx="4038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7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8" name="Text Box 12"/>
          <p:cNvSpPr/>
          <p:nvPr/>
        </p:nvSpPr>
        <p:spPr>
          <a:xfrm>
            <a:off x="53341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69" name="Picture 13" descr="j0264234"/>
          <p:cNvPicPr/>
          <p:nvPr/>
        </p:nvPicPr>
        <p:blipFill>
          <a:blip r:embed="rId1"/>
          <a:stretch/>
        </p:blipFill>
        <p:spPr>
          <a:xfrm>
            <a:off x="0" y="459108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4" descr=""/>
          <p:cNvPicPr/>
          <p:nvPr/>
        </p:nvPicPr>
        <p:blipFill>
          <a:blip r:embed="rId2"/>
          <a:stretch/>
        </p:blipFill>
        <p:spPr>
          <a:xfrm>
            <a:off x="3429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9" dur="3901" fill="hold"/>
                                        <p:tgtEl>
                                          <p:spTgt spid="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7:52:35Z</dcterms:created>
  <dc:creator>Melissa Caro</dc:creator>
  <dc:description/>
  <dc:language>en-US</dc:language>
  <cp:lastModifiedBy>Laura McDow</cp:lastModifiedBy>
  <dcterms:modified xsi:type="dcterms:W3CDTF">2010-08-26T00:23:43Z</dcterms:modified>
  <cp:revision>16</cp:revision>
  <dc:subject/>
  <dc:title>Predicates</dc:title>
</cp:coreProperties>
</file>